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1C4-2CB5-4814-B197-7139B2A9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A06-6A80-4592-B159-0E2ADAE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7B7-0383-4C67-88B0-70628E17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0FF-CB7A-44FB-848D-B36A56AA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3194-811F-492B-85B0-6E40634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3181-EF0D-4485-9C3D-A0D0F8E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075-93D4-45E8-BD3D-26E4895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F568-0B32-40A4-BD7C-B18791AB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CDA6-BB7F-4828-93B5-F3B7C1F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9893-76B5-4064-8494-6893647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FC98-6561-4EEB-867A-4D8D1F21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920-5486-4AA5-9AFA-CD8C0112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BC2B-7BFB-4A0A-9328-9DE4561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BFC6-6EB3-4A7C-BCB6-D0F35222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86A4-82EC-4CBA-9A96-843715F6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F82C-D61A-4A81-9A82-412C9BD9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BCFF-85CD-4E7A-9B37-0FC11B2A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939-9235-4ED1-828E-D476B28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C3D-DCEA-45C6-9756-19DB643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60E-66B6-48A1-84CC-BCB0557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847-D89E-4B4F-8476-7D8E46D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FDD-8919-4C40-BCA2-951F662E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182-9AE2-4E96-8348-22EF1AE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C36-CB8B-4F04-A54E-B974EB5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F414-6452-4F51-92AA-535726EF2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F5C-6DC3-4655-A9F9-36CF42F18B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ainpop.com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hyperlink" Target="http://www.brainpop.com/video_tutorials/brainpop_on_an_interactive_whiteboard/" TargetMode="External"/><Relationship Id="rId16" Type="http://schemas.openxmlformats.org/officeDocument/2006/relationships/hyperlink" Target="http://www.brainpop.com/video_tutorials/activotes/index.weml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8.jpeg"/><Relationship Id="rId2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s://secure.brainpop.com/help/subscription_option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Technology Initiativ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y: Kristy Hank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71800" y="607860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2"/>
              </a:rPr>
              <a:t>http://www.brainpop.co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Are our students really engaged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keep our students engaged and excited about our less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increase student achieve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technology help me get my students excited about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410080" y="1143000"/>
            <a:ext cx="259092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724280" y="4419720"/>
            <a:ext cx="3505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What is BrainPOP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imated curriculum based content that supports educators and engages stud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lso available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Jr. (k-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Esp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ñ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rainPOP Educ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sources Includ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ovie Cl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peri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ime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ctivity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an be used in many content are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nguage 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rt/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20955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57600" y="25909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How can BrainPOP be us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581280"/>
            <a:ext cx="4724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ntroducing a new lesson or top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llustrating complex subject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Review before a 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mmarize a concept previously tau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ngage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mprove Student Achie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7939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Teacher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124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ainPOP Edu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sson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 lessons align with state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tivity 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phic Organ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71840" y="837720"/>
            <a:ext cx="297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Word 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tes topics to the re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YI Rea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81480" y="5486400"/>
          <a:ext cx="4635360" cy="1158840"/>
        </p:xfrm>
        <a:graphic>
          <a:graphicData uri="http://schemas.openxmlformats.org/drawingml/2006/table">
            <a:tbl>
              <a:tblPr/>
              <a:tblGrid>
                <a:gridCol w="46353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deo Tutorials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200400" y="3429000"/>
          <a:ext cx="2286000" cy="7002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Comic Sans MS"/>
                          <a:ea typeface="Arial"/>
                        </a:rPr>
                        <a:t>Pare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52880" y="5638680"/>
          <a:ext cx="4616640" cy="911520"/>
        </p:xfrm>
        <a:graphic>
          <a:graphicData uri="http://schemas.openxmlformats.org/drawingml/2006/table">
            <a:tbl>
              <a:tblPr/>
              <a:tblGrid>
                <a:gridCol w="979560"/>
                <a:gridCol w="3637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BrainPOP on an Interactive Whitebo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Using BrainPOP With Electronic Voting De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5486400" y="57913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5486400" y="6172200"/>
            <a:ext cx="237960" cy="23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24480" y="304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  <a:ea typeface="Arial"/>
              </a:rPr>
              <a:t>Stu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64771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ccess to al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Great for reviewing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Children who are more excited about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24/7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Family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fter-Hours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5"/>
          <a:stretch/>
        </p:blipFill>
        <p:spPr>
          <a:xfrm>
            <a:off x="3505320" y="533520"/>
            <a:ext cx="24573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49532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How much does it c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95680" y="-3812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room -- $1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a Lab -- $5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hool -- $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trict – Price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8680" y="266688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What do I need to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429000"/>
            <a:ext cx="883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ttend monthly meetings for training s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fter faculty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s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aluate student test scores to check for improv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lassroom observations/vid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mplete survey at the end of the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1904760" cy="142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96080" y="2438280"/>
            <a:ext cx="1447920" cy="2362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09680" y="1905120"/>
            <a:ext cx="678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1905120"/>
            <a:ext cx="609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3"/>
              </a:rPr>
              <a:t>https://secure.brainpop.com/help/subscription_options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54:47Z</dcterms:created>
  <dc:creator>KEMERSON</dc:creator>
  <dc:description/>
  <dc:language>en-US</dc:language>
  <cp:lastModifiedBy>Kristy Hankins</cp:lastModifiedBy>
  <dcterms:modified xsi:type="dcterms:W3CDTF">2010-08-19T21:22:16Z</dcterms:modified>
  <cp:revision>6</cp:revision>
  <dc:subject/>
  <dc:title>BrainPOP</dc:title>
</cp:coreProperties>
</file>